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4.jpeg" ContentType="image/jpeg"/>
  <Override PartName="/ppt/media/image15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F88-F295-44E0-9082-F986FEF2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624-E77E-4335-801B-9133CDD6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83C-84DA-4233-9C3B-7ABA401B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CA2-856C-4209-86C7-07D9172B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6C7-9B6F-4251-BBE8-AFAAF4A7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812-6334-4F72-8062-0DA7830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488-2929-4340-A64B-7AE176B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414-3B5F-4FF1-8A47-405B55BE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C03-4D89-4275-A37A-EC0816F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E3B-2E3B-4BD0-B8AE-60524150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FD8-C462-4C08-9485-2443CE9C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A87-3339-44BF-A58E-62D0DA6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C:\Documents and Settings\Sam Grogan\My Documents\Proxima\Set1.5\5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43200" y="647712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12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1E9F-94DE-4AC0-B2DC-469AC7380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ercials &amp; Advertis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4" descr="C:\WINDOWS\Application Data\Microsoft\Media Catalog\Downloaded Clips\cl36\j0136689.wmf"/>
          <p:cNvPicPr/>
          <p:nvPr/>
        </p:nvPicPr>
        <p:blipFill>
          <a:blip r:embed="rId1"/>
          <a:stretch/>
        </p:blipFill>
        <p:spPr>
          <a:xfrm>
            <a:off x="2133720" y="2209680"/>
            <a:ext cx="4800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did that commercial do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it attract your attentio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it keep you interes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want a glass of Kool-ai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 you want go buy Kool-ai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would you do differently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4" descr="C:\WINDOWS\Application Data\Microsoft\Media Catalog\Downloaded Clips\cl29\j0104726.wmf"/>
          <p:cNvPicPr/>
          <p:nvPr/>
        </p:nvPicPr>
        <p:blipFill>
          <a:blip r:embed="rId1"/>
          <a:stretch/>
        </p:blipFill>
        <p:spPr>
          <a:xfrm>
            <a:off x="685800" y="4876920"/>
            <a:ext cx="1816200" cy="110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WINDOWS\Application Data\Microsoft\Media Catalog\Downloaded Clips\cl29\j0104726.wmf"/>
          <p:cNvPicPr/>
          <p:nvPr/>
        </p:nvPicPr>
        <p:blipFill>
          <a:blip r:embed="rId2"/>
          <a:stretch/>
        </p:blipFill>
        <p:spPr>
          <a:xfrm>
            <a:off x="6172200" y="4876920"/>
            <a:ext cx="1816200" cy="110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WINDOWS\Application Data\Microsoft\Media Catalog\Downloaded Clips\cl29\j0104726.wmf"/>
          <p:cNvPicPr/>
          <p:nvPr/>
        </p:nvPicPr>
        <p:blipFill>
          <a:blip r:embed="rId3"/>
          <a:stretch/>
        </p:blipFill>
        <p:spPr>
          <a:xfrm>
            <a:off x="3352680" y="4876920"/>
            <a:ext cx="181620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pany Logo’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" name="Picture 4" descr="http://www.techages.com/articles/wp-content/uploads/2007/09/company-logos1.gif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4684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04920" y="19810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ny of these familia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w it’s your turn to decide, what kind of commercial will you mak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5" descr="C:\WINDOWS\Application Data\Microsoft\Media Catalog\Downloaded Clips\cl3f\j0158117.wmf"/>
          <p:cNvPicPr/>
          <p:nvPr/>
        </p:nvPicPr>
        <p:blipFill>
          <a:blip r:embed="rId1"/>
          <a:stretch/>
        </p:blipFill>
        <p:spPr>
          <a:xfrm>
            <a:off x="3581280" y="1295280"/>
            <a:ext cx="1743120" cy="1820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:\WINDOWS\Application Data\Microsoft\Media Catalog\Downloaded Clips\cl3f\j0158051.wmf"/>
          <p:cNvPicPr/>
          <p:nvPr/>
        </p:nvPicPr>
        <p:blipFill>
          <a:blip r:embed="rId2"/>
          <a:stretch/>
        </p:blipFill>
        <p:spPr>
          <a:xfrm>
            <a:off x="1600200" y="2286000"/>
            <a:ext cx="164628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WINDOWS\Application Data\Microsoft\Media Catalog\Downloaded Clips\cl3f\j0158051.wmf"/>
          <p:cNvPicPr/>
          <p:nvPr/>
        </p:nvPicPr>
        <p:blipFill>
          <a:blip r:embed="rId3"/>
          <a:stretch/>
        </p:blipFill>
        <p:spPr>
          <a:xfrm>
            <a:off x="5638680" y="2438280"/>
            <a:ext cx="1646280" cy="183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:\WINDOWS\Application Data\Microsoft\Media Catalog\Downloaded Clips\cl38\j0141379.wmf"/>
          <p:cNvPicPr/>
          <p:nvPr/>
        </p:nvPicPr>
        <p:blipFill>
          <a:blip r:embed="rId4"/>
          <a:stretch/>
        </p:blipFill>
        <p:spPr>
          <a:xfrm>
            <a:off x="3276720" y="3352680"/>
            <a:ext cx="24494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" name="Picture 3" descr="C:\WINDOWS\Application Data\Microsoft\Media Catalog\Downloaded Clips\cl5c\j0232378.wmf"/>
          <p:cNvPicPr/>
          <p:nvPr/>
        </p:nvPicPr>
        <p:blipFill>
          <a:blip r:embed="rId1"/>
          <a:stretch/>
        </p:blipFill>
        <p:spPr>
          <a:xfrm>
            <a:off x="2286000" y="1066680"/>
            <a:ext cx="4589640" cy="518184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2057400" y="5715000"/>
            <a:ext cx="5095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ke a Commercial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re do we find advertisement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advertisement or a commercial  can be found in a newspaper, on TV, on the Internet, and on the radi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you think of anywhere else we’d find advertisement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Picture 4" descr="C:\My Documents\My Pictures\busad.jpg"/>
          <p:cNvPicPr/>
          <p:nvPr/>
        </p:nvPicPr>
        <p:blipFill>
          <a:blip r:embed="rId1"/>
          <a:stretch/>
        </p:blipFill>
        <p:spPr>
          <a:xfrm>
            <a:off x="1600200" y="4572000"/>
            <a:ext cx="2658960" cy="1612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My Documents\My Pictures\billboard.jpg"/>
          <p:cNvPicPr/>
          <p:nvPr/>
        </p:nvPicPr>
        <p:blipFill>
          <a:blip r:embed="rId2"/>
          <a:stretch/>
        </p:blipFill>
        <p:spPr>
          <a:xfrm>
            <a:off x="6705720" y="4343400"/>
            <a:ext cx="19047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are advertisements for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et us to come to a st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nnounce a new produ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ssure custom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ify customers about spec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get us to ask ques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make people aware of brand names and 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3520" y="1295280"/>
            <a:ext cx="8076960" cy="419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523880" y="1981080"/>
            <a:ext cx="6096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an you think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other reason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Picture 12" descr="C:\WINDOWS\Application Data\Microsoft\Media Catalog\Downloaded Clips\cl2a\j0105188.wmf"/>
          <p:cNvPicPr/>
          <p:nvPr/>
        </p:nvPicPr>
        <p:blipFill>
          <a:blip r:embed="rId1"/>
          <a:stretch/>
        </p:blipFill>
        <p:spPr>
          <a:xfrm>
            <a:off x="-228600" y="380880"/>
            <a:ext cx="25146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mmercials make us want things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" name="Picture 4" descr="A:\buybuy.gif"/>
          <p:cNvPicPr/>
          <p:nvPr/>
        </p:nvPicPr>
        <p:blipFill>
          <a:blip r:embed="rId1"/>
          <a:srcRect l="0" t="0" r="0" b="5000"/>
          <a:stretch/>
        </p:blipFill>
        <p:spPr>
          <a:xfrm>
            <a:off x="1523880" y="1289160"/>
            <a:ext cx="60962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ow do they do that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ercials use different ways to make us want to buy thing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to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ing it look ‘cool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ission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“part” of a healthy break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ying at our Heartstr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dwagon, Star Power, Repetition, there are many ways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t’s get a look at one, first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COOLWHIP.AVI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01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makes a good commercial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s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ort Mess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m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mily F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eated Mess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09480" y="2057400"/>
            <a:ext cx="8077320" cy="3200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WINDOWS\Application Data\Microsoft\Media Catalog\BD00028_.WMF"/>
          <p:cNvPicPr/>
          <p:nvPr/>
        </p:nvPicPr>
        <p:blipFill>
          <a:blip r:embed="rId1"/>
          <a:stretch/>
        </p:blipFill>
        <p:spPr>
          <a:xfrm>
            <a:off x="5486400" y="2209680"/>
            <a:ext cx="2870280" cy="2811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1676520" y="2362320"/>
            <a:ext cx="277164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a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se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does a commercial need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be less than 1 minu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attract atten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keep inter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develop desire (make people want the produc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 call to action (make people go buy the produc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nother example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KOOL-AID.AVI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8528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Grant Carter Modified</dc:creator>
  <dc:description/>
  <dc:language>en-US</dc:language>
  <cp:lastModifiedBy>Admin</cp:lastModifiedBy>
  <dcterms:modified xsi:type="dcterms:W3CDTF">2010-07-01T21:10:32Z</dcterms:modified>
  <cp:revision>16</cp:revision>
  <dc:subject/>
  <dc:title>PowerPoint Presentation</dc:title>
</cp:coreProperties>
</file>